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3A8-9021-44BC-88A5-456EF29E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59E-DD54-43E4-82D4-F7C3655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AE9-4014-47E4-A61A-D58148AE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A1B-0E16-4152-8686-5DE39934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50B5-935F-4F42-AEF7-C5AF38C5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302D-D613-40F5-8058-6C544A8C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7892-8234-4AEC-BB5E-71241DC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F6B0-7827-4B13-B766-E99CB0D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3D5-2589-4FAE-AF82-BDA2F2CA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8D6D-619F-4203-9FF4-D165A00A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F793-EA43-4651-9B28-05C37E74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C0C-CF36-4418-AAA1-AD60A005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5181-45C3-458F-8E20-412914FE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2CDD-248F-4348-95F5-47580940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6337-D123-4BD5-978B-730BEA64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6BF0-5778-42A3-88E8-732AC9EB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4276-E1FE-40AF-8CAA-13547069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478-3BE8-4BA7-9AC0-C47044F4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AA4-2E15-499D-BEE4-0E99D262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6EF-81D5-4347-9D08-156B66A9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4BF-B1E1-4728-9A18-B8974897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B00-87D8-42F7-BC49-AB15D41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0C8-FDD8-441B-8D88-2713A17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C5D-ADEA-4A11-9DED-747E2AC8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0915-D163-4A43-B023-19094B1C3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0259-5EF7-4D48-8AEF-548BC576F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Multimedia Project Team Roles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Chapter 11</a:t>
            </a:r>
            <a:endParaRPr b="1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m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Uses programming languages to develop the underlying code that enables an application to run on computer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962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ystems Architec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ponsible for the overall technical design of an application, including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rdware and operating system it will run 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its components will work toge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gramming languages and other tools that will be used to develop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 Artis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eates original graphics for the application, working closely with the UID, photographers, and any others who contribute to the application’s visual conten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riter and Edito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rs specialize in content or documentation.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ditors review the work of all writer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Videographer and Audio Specialist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y record sounds, integrate existing files into the application, edit recordings for clarity, and convert files to different forma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Quality Assurance Analys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specialist whose job involves testing the application and reporting problems to be corrected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mast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ponsible for keeping a Web site up-to-date and running smoothly, and for helping visitors who have questions about the sit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eam Effor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eating large multimedia applications requires the concerted efforts of many people over time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Project Phases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ny large-scale multimedia projects follow the system development life cycle (SDLC)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95680" y="222876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he Project Team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makeup of a project team depends on the nature of the project and its budget and schedule. On small teams, members often fill more than one role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ject Team Rol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39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ject teams may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Represent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 Desig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rchit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 Art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1981080"/>
            <a:ext cx="42670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 and 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 and Video Speci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Assurance 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lient Representativ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organization or person who pays for the application and publishes i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ject Manag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267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Responsible for ensuring that the team meets its deadlines and stays within its budget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16600" y="1981080"/>
            <a:ext cx="4030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duc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ponsible for planning and coordinating the development of all the different media in an applic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3886200"/>
            <a:ext cx="655308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ser Interface Designer (UID)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sponsible for planning all the aspects of an application that affect a user’s ability to understand and navigate i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00:54:56Z</dcterms:created>
  <dc:creator>Danielle Perkins</dc:creator>
  <dc:description/>
  <dc:language>en-US</dc:language>
  <cp:lastModifiedBy>GLENCOE</cp:lastModifiedBy>
  <dcterms:modified xsi:type="dcterms:W3CDTF">2003-01-04T01:38:07Z</dcterms:modified>
  <cp:revision>9</cp:revision>
  <dc:subject/>
  <dc:title>Chapter 11 The Multimedia Project Team Roles</dc:title>
</cp:coreProperties>
</file>